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59762"/>
        <c:axId val="3002777"/>
      </c:barChart>
      <c:catAx>
        <c:axId val="39059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2777"/>
        <c:crosses val="autoZero"/>
        <c:auto val="1"/>
        <c:lblAlgn val="ctr"/>
        <c:lblOffset val="100"/>
        <c:noMultiLvlLbl val="0"/>
      </c:catAx>
      <c:valAx>
        <c:axId val="3002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59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732-4366-45BC-A5D4-1D21436A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5FF-F4D2-4373-AB89-5F343F46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204-D78E-4661-B984-D4180C55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6D8-F23D-4453-A923-D903C1D5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F79-B7B1-4CFE-BDF8-FBA166DB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30F-0942-4970-A5C0-8D8D913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C5C-33C5-49CA-9FCF-C57AA30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FD6-3057-438C-A2E4-62D71F8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D55-8D0C-452A-A357-4323FC29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95A-AAA3-419B-B380-8879FD6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C07-F2FF-4967-A317-E9B7A866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C12-910C-4404-9086-3C30113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F3217-55E6-499A-8BAB-9E703A7D6F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