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69769"/>
        <c:axId val="37037123"/>
      </c:barChart>
      <c:catAx>
        <c:axId val="14969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37123"/>
        <c:crosses val="autoZero"/>
        <c:auto val="1"/>
        <c:lblAlgn val="ctr"/>
        <c:lblOffset val="100"/>
        <c:noMultiLvlLbl val="0"/>
      </c:catAx>
      <c:valAx>
        <c:axId val="37037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69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514-AC4B-479E-AB7D-55D9142E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AED-6309-4C0B-AA37-9D991A93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E95-9E24-4A13-851E-E710AFAB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74E-69B8-4ADC-9E9C-8506314D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3DA-B1D8-49F6-ADFF-113B6BAB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4A9-98BE-4DD0-8720-7DFBBAB1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E0E-16B7-4EB4-8F05-E57873D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310-F6E6-4C1B-BA65-571812DE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1F5-EDCF-4FA8-905B-ED1D44F6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AD1-9AB8-4792-8C05-E8212035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DE5-5269-43DE-9B52-1CCB1D3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087-BC5F-46FE-802F-D7774DE6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0D796-690C-45E1-A6FA-4972E42405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