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79065"/>
        <c:axId val="8592085"/>
      </c:barChart>
      <c:catAx>
        <c:axId val="57279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2085"/>
        <c:crosses val="autoZero"/>
        <c:auto val="1"/>
        <c:lblAlgn val="ctr"/>
        <c:lblOffset val="100"/>
        <c:noMultiLvlLbl val="0"/>
      </c:catAx>
      <c:valAx>
        <c:axId val="8592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79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DEC-074A-4DAC-9AE0-C64B92D3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C0B-34E3-4553-BCC4-C5BA1E6D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1EF-DD3A-4104-8B55-2C12F3B1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969-A478-43E1-9816-92B3CCA4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48C-113E-444B-A597-EFDA10C7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57D-BC47-45DE-AFCE-2431AA29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7C8-1247-4FC6-BEE0-1EBD7A7F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566-239B-49D7-BD0F-4CB86566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CA4-C55F-4422-8BAB-CEB3D476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D60-F286-4E89-AF6F-BEB2030C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E57-7CF5-4BF7-B8A4-EF1C1C62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DCC-8CEA-44DC-844A-9AD780B7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7081D-D662-4A3D-9606-9847D0DCE5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