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59277"/>
        <c:axId val="61682372"/>
      </c:barChart>
      <c:catAx>
        <c:axId val="46159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82372"/>
        <c:crosses val="autoZero"/>
        <c:auto val="1"/>
        <c:lblAlgn val="ctr"/>
        <c:lblOffset val="100"/>
        <c:noMultiLvlLbl val="0"/>
      </c:catAx>
      <c:valAx>
        <c:axId val="61682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59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BD1-2C53-4A24-A96B-56106F07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F05-A774-4F5E-9EC4-8C93B786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BF1-EBB9-4846-AEBB-E24EA4DA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63A-7820-4984-A1AA-5320B8CF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323-C185-4AD9-9C26-4D8D4077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891-99D9-4D5E-BF36-EFABE4B4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A50-46A2-4302-A886-18657448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AF2-22E2-455C-84F3-0BA322A0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1B0-79B2-4346-B48E-DB0786D3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BCF-AE02-4E50-A943-4BE5A0DB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012-C013-4914-AA6C-BA22113F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25C-AEB8-48EC-A80C-7A9A7BB7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69806-8D16-4D2F-92A6-244E16162E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