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202160"/>
        <c:axId val="32451987"/>
      </c:barChart>
      <c:catAx>
        <c:axId val="692021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451987"/>
        <c:crosses val="autoZero"/>
        <c:auto val="1"/>
        <c:lblAlgn val="ctr"/>
        <c:lblOffset val="100"/>
        <c:noMultiLvlLbl val="0"/>
      </c:catAx>
      <c:valAx>
        <c:axId val="324519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021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934B-6460-4B23-9D45-241A0D3C2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0FA2-18A2-4F07-A738-8446D97C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FA37-8AEB-46BA-A15A-EB1EEDED8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408C-C6CC-484E-82BC-0B184A8DC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3AE9-B1AD-4D3E-89F6-6E01FD8F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C84D-3843-49C1-97EC-11B00150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B540-6FB9-4F69-A548-57231CD3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724F-3BF8-41A7-A731-B2F3C39E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B4E9-BE2B-4106-A7A0-DF320F33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69E4-980D-4FA5-AF6A-8C38739B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2FC3-CD99-4CC5-8794-73AE5C00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0F53-0634-46D7-888B-E02596DD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A161A-560E-4023-9E94-0CE944B823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