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51888"/>
        <c:axId val="41687242"/>
      </c:barChart>
      <c:catAx>
        <c:axId val="851518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87242"/>
        <c:crosses val="autoZero"/>
        <c:auto val="1"/>
        <c:lblAlgn val="ctr"/>
        <c:lblOffset val="100"/>
        <c:noMultiLvlLbl val="0"/>
      </c:catAx>
      <c:valAx>
        <c:axId val="416872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518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8831-DC78-4DFC-9036-743FE549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9BCF-F0C1-4FBC-99E4-B80ABE79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B723-C5A4-43C7-8195-CC0E4D8E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27D6-CB17-407E-A4CA-81843947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DBC1-998B-494D-BC1F-297A247A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3ED6-5D3C-4EBB-A68A-DC691828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B061-24D6-4436-89B6-A12474C0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7C37-6E2D-4593-8E87-1B3BF5CA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1C9F-4C62-4FB3-A2D0-F36249CF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4D68-CCD9-4C53-B6F9-E6CB2683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718C-A8BB-4636-AE2B-0B1A8838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0B92-F45D-427D-A9AF-CF968A51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C69EB-EEE4-44D4-B455-9A33488EB3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