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19200"/>
        <c:axId val="62360111"/>
      </c:barChart>
      <c:catAx>
        <c:axId val="31619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60111"/>
        <c:crosses val="autoZero"/>
        <c:auto val="1"/>
        <c:lblAlgn val="ctr"/>
        <c:lblOffset val="100"/>
        <c:noMultiLvlLbl val="0"/>
      </c:catAx>
      <c:valAx>
        <c:axId val="623601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19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35AD-610D-4C75-88EB-8A07612C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9FA-E005-423F-A258-F60E1843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707E-ED10-4D2B-BC53-185770D7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C568-26B1-4F89-8F41-C159CDCA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9D37-D352-4AE6-AEDC-1E9E9F2AA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C4B-2D16-4C42-9D1F-ED8C82A60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479-0DFC-4981-831F-DA96E3AC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47D-B26F-482D-A304-B1CDD1771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C79-1C08-45B7-B0D5-7733D350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4A1-66B4-45BE-BC68-FF1064EF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6F8-D51A-4598-8866-A60C903B9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DA66-8BCF-48CF-A145-6D8F4D5B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9F64E-ADCB-49A2-B8ED-B321DE171B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