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101428"/>
        <c:axId val="38945503"/>
      </c:barChart>
      <c:catAx>
        <c:axId val="221014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45503"/>
        <c:crosses val="autoZero"/>
        <c:auto val="1"/>
        <c:lblAlgn val="ctr"/>
        <c:lblOffset val="100"/>
        <c:noMultiLvlLbl val="0"/>
      </c:catAx>
      <c:valAx>
        <c:axId val="389455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014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9D0A-D14F-4C84-9997-06E2ADE0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8A73-630A-4A69-81E8-7D9AEF2A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ECA8-FF57-4B3D-B7F6-E58B10596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A362-BF36-4D53-BAA8-2503E025A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46E2-0DBD-4C74-A40F-70A541DE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4BDF-3F93-4C21-9C98-8A65598F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BED2-0CEC-4209-BBB0-FC72A022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4FAD-D024-4D78-977D-EF095DC1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F820-AAAF-4166-9A56-DE2268F7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3F44-8F41-4C1A-8A1D-F5B8DDE3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0582-B1A2-43C7-AA2D-66429ECF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1E4A-6C66-4542-9C45-4A0D286E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7284F-A238-4247-9866-3158EB8839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