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61288"/>
        <c:axId val="46908609"/>
      </c:barChart>
      <c:catAx>
        <c:axId val="30261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08609"/>
        <c:crosses val="autoZero"/>
        <c:auto val="1"/>
        <c:lblAlgn val="ctr"/>
        <c:lblOffset val="100"/>
        <c:noMultiLvlLbl val="0"/>
      </c:catAx>
      <c:valAx>
        <c:axId val="46908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1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BF6-C79B-4A41-9EC8-5935073D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C82-A1AD-4F28-A603-DDF10747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FFC-356F-4DD0-BE00-2B0981BB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9FF-F589-4D77-A5BC-534C6B7B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6D9-743C-4E2F-BD5E-48EED654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FFE-3B8E-44E6-BFAD-B55CE2A2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30C-088D-48D5-B8E3-1DEAC32D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DA0-40C1-4EAA-B1D6-D523FD3E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0FC-B196-4838-9722-CCD8C3BE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B7B-7CDF-4E81-B8C8-76D28E55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F58-7925-46FF-A59F-502C3A5E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18E-2084-42BB-9711-B05CBD7A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6E414-C7C7-4577-9237-9BB82915F7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