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61416"/>
        <c:axId val="3022592"/>
      </c:barChart>
      <c:catAx>
        <c:axId val="44761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2592"/>
        <c:crosses val="autoZero"/>
        <c:auto val="1"/>
        <c:lblAlgn val="ctr"/>
        <c:lblOffset val="100"/>
        <c:noMultiLvlLbl val="0"/>
      </c:catAx>
      <c:valAx>
        <c:axId val="3022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1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7D7-1C82-4BE2-9594-42919B3F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3B4-5CE8-4251-9A2F-4264D72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E63-9181-4707-9F53-2EF53B0D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924-D4A7-4C2E-934E-1F94FF97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6E5-5657-48D6-8C69-5884885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C3F-3A70-47CD-AB88-A009F27C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0F8-3AEC-4323-9956-5992FED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DCE-4AD1-4E70-A881-FA25B7F1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009-7D14-4617-AB18-35AED1FC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697-CC1A-4368-8ACC-B282E4D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E52-ACEF-434E-8D72-235CA3F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C02-8512-40A8-90FE-726C9552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0297-B2DA-410A-A981-80BE11839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