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87295"/>
        <c:axId val="74602305"/>
      </c:barChart>
      <c:catAx>
        <c:axId val="97687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02305"/>
        <c:crosses val="autoZero"/>
        <c:auto val="1"/>
        <c:lblAlgn val="ctr"/>
        <c:lblOffset val="100"/>
        <c:noMultiLvlLbl val="0"/>
      </c:catAx>
      <c:valAx>
        <c:axId val="74602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7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BB3-3246-443B-B9DA-487BCC09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6E4-96D7-4001-B210-3C9EC988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3A4-7C4A-4158-8745-D407BEB3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620-93D8-4746-B949-19E04B9C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6C8-9379-4A79-A13C-3A62EBDE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FB5-D60C-4EF2-8FB2-E11132BA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EEA-B5E0-45E0-9D8C-AEC48F95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C54-4B56-4D5A-8E36-E486B5E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52B-3C03-4E4A-A854-93C7AE66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3E3-AAF6-48A1-B7E3-15AE752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98C-71EB-4175-88F9-17EFBE5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9E7-E38D-4C33-86C0-C2A3914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71A01-6CA3-4A97-B927-AD802D45D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