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3422"/>
        <c:axId val="62332308"/>
      </c:barChart>
      <c:catAx>
        <c:axId val="9253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32308"/>
        <c:crosses val="autoZero"/>
        <c:auto val="1"/>
        <c:lblAlgn val="ctr"/>
        <c:lblOffset val="100"/>
        <c:noMultiLvlLbl val="0"/>
      </c:catAx>
      <c:valAx>
        <c:axId val="62332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2D2-5904-47F9-BB10-8FDDCB08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0C8-60F2-437A-8272-F1511AF5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FAA-C78E-4A63-992D-29D25511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A00-7DD2-4E0F-ACE7-CFD26C78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0F8-90B5-4EE4-BBEB-202931A6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C25-A5DC-48A7-9E73-0EC48FE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22B-262A-4DF3-8A46-CE7D7D24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A73-10D9-48C1-956C-BA78AAB8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EE5-AF19-4A90-877C-3BA34D4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C1E-2053-4667-9E85-461377CA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71D-F13D-468B-B5BD-8441DE4F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783-8523-4D73-B5F0-59588D6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19416-62C9-4216-B840-E4DA73AF32C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