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8211946"/>
        <c:axId val="3778785"/>
      </c:barChart>
      <c:catAx>
        <c:axId val="4821194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778785"/>
        <c:crosses val="autoZero"/>
        <c:auto val="1"/>
        <c:lblAlgn val="ctr"/>
        <c:lblOffset val="100"/>
        <c:noMultiLvlLbl val="0"/>
      </c:catAx>
      <c:valAx>
        <c:axId val="37787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1194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C44-915C-449B-82C5-0264A8DE0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C35B-BBDD-40B6-8DEB-B8808FCF7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D896-E9BD-4813-8DD5-A29B5DB2B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811-E13D-4056-8C9E-31B63183D2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DD78-3965-4E83-8DDD-4553E1E0D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DE5B-9A84-4657-97A2-7190D7414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76641-99D8-47F7-BC8D-B4534C8B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13E7-F50C-4002-B84F-8EDA4B0E5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0C8-7873-4D12-9BB2-6AD920EC2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CC061-99A0-4473-8B41-4F4E4F867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DBDF-59DB-401A-90C8-1E5987FD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51587-7069-4F96-8F61-603BA730D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CBE24-3366-43ED-9AA8-F4EB52A056F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