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60000"/>
        <c:axId val="4627489"/>
      </c:barChart>
      <c:catAx>
        <c:axId val="75360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7489"/>
        <c:crosses val="autoZero"/>
        <c:auto val="1"/>
        <c:lblAlgn val="ctr"/>
        <c:lblOffset val="100"/>
        <c:noMultiLvlLbl val="0"/>
      </c:catAx>
      <c:valAx>
        <c:axId val="4627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60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60E-4477-4195-A640-21ECC50C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3B0-A30B-40D2-886C-0B33F2E8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0C6-EFB1-4385-82B1-B5F2E964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BE9-49EB-4AB1-9A5C-B495F963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EAF-75EA-4A26-AA81-DC529E7B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E04-3400-45E5-BD07-81E5A249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2E2-ED26-4088-9B59-5BB195E6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781-F22E-49E4-BE0D-6AD49457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251-EB11-4763-A3E6-4EFB4B6B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CAC-DED3-4185-9080-D06B8BE8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29C-02D5-4B01-A940-AD576F19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922-4FB3-4D52-AC8B-25468ED9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CC8D4-B8E2-47DD-965A-0490F77938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