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12212"/>
        <c:axId val="90022792"/>
      </c:barChart>
      <c:catAx>
        <c:axId val="19712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22792"/>
        <c:crosses val="autoZero"/>
        <c:auto val="1"/>
        <c:lblAlgn val="ctr"/>
        <c:lblOffset val="100"/>
        <c:noMultiLvlLbl val="0"/>
      </c:catAx>
      <c:valAx>
        <c:axId val="90022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12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0F6-AC2A-4724-AB16-35837411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E71-09ED-4032-88D7-6581843A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73D-DCAA-4933-BB59-925A41DF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AE0-F3B6-4EB7-AFCB-8130DF18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271-20A6-4438-AB45-209EAC04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B36-62D5-43EE-810D-E91C914F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146-C46B-4ED3-85AE-954A3BCF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BA5-3F5D-4584-A3C5-38DE8B82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B9A-2E4C-4823-B0BA-B19DF31A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55A-F3BE-4999-A3CE-F5BE0AF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4B9-75C9-44ED-B39C-ADB7B8E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C3C-AF68-4554-8D94-574CB72C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F3040-E458-4E3E-B086-A766922497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