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1DABA-B2B5-4082-9F60-C8A0A6C9E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F370-7E91-4240-9360-9B766A59CD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77223-F85D-48E9-9BEB-47B753B9B9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DED7D-9FE1-4E1A-AFC5-1127DA8AE6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A136-6336-4DB5-B106-1546CAB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DD1C8-5F32-46B8-93E3-0CECE7672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E8B8-9605-47D5-A7AA-9C5632E40F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A375-9C74-4499-B598-9C8DA137D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8C75-CD54-4C9C-9C78-1859797CA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229C-29A0-4ADB-BBE9-811A933E7D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A5179-23DD-47ED-BB21-ECFE3771D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FF703-F661-48F2-98A6-3D0E51CE2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759C-CE17-4911-8FF6-396442DE72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3.png"/><Relationship Id="rId8" Type="http://schemas.openxmlformats.org/officeDocument/2006/relationships/image" Target="../media/image2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2514600"/>
            <a:ext cx="3657600" cy="457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915840" y="2087640"/>
            <a:ext cx="1827360" cy="426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914400" y="1143000"/>
            <a:ext cx="1843200" cy="9144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43200" y="1143000"/>
            <a:ext cx="182880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144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743200" y="16002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743200" y="2085840"/>
            <a:ext cx="1828800" cy="4287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743200" y="205740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733840" y="1619280"/>
            <a:ext cx="1842840" cy="4287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1143000"/>
            <a:ext cx="3657600" cy="1828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2743200" y="1600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H="1">
            <a:off x="914400" y="1606680"/>
            <a:ext cx="1843200" cy="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8288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5256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657600" y="1143000"/>
            <a:ext cx="0" cy="18288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165320" y="1371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165320" y="1828800"/>
            <a:ext cx="1434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860560" y="18288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165320" y="2286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165320" y="27432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3429000"/>
            <a:ext cx="5486400" cy="45720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343400"/>
            <a:ext cx="5486400" cy="45720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5257800"/>
            <a:ext cx="3657600" cy="4572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43000" y="54864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6576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724280" y="3657600"/>
            <a:ext cx="14353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3000" y="4572000"/>
            <a:ext cx="1503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971800" y="4572000"/>
            <a:ext cx="3200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24T21:59:59Z</dcterms:created>
  <dc:creator>eshapiro</dc:creator>
  <dc:description/>
  <dc:language>en-US</dc:language>
  <cp:lastModifiedBy>eshapiro</cp:lastModifiedBy>
  <dcterms:modified xsi:type="dcterms:W3CDTF">2005-02-24T22:26:21Z</dcterms:modified>
  <cp:revision>2</cp:revision>
  <dc:subject/>
  <dc:title>Slide 1</dc:title>
</cp:coreProperties>
</file>