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68C2-8A10-4327-BA13-5CAB128DC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98D43-9A28-4FAE-BEC8-C414A2EFB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E9D57-685D-4A62-9299-6500C2D34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3156A-D2DB-40CC-8C28-770A21C9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37E1C-493B-462D-8550-20BF44487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106F-64BA-4B85-A17D-105BD7AA3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2F427-03D5-4754-A801-806261B7A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9DB91-CF5F-4188-B16A-E835B4F93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F876-BB5E-4BDF-9A7B-3D390935D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C91B6-35C3-41B8-A37F-5CDCCB001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DCB33-8BEE-4D17-B851-97A8B892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10254-40CD-4B18-800D-A0C9D4B8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6AD48-72BC-4C4C-A4A8-949805E0BD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0400"/>
            <a:ext cx="380880" cy="7747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982880" y="1746360"/>
            <a:ext cx="380880" cy="7747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1974960" y="1126800"/>
            <a:ext cx="2609640" cy="6094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359080" y="1895040"/>
            <a:ext cx="2225520" cy="622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33:08Z</dcterms:modified>
  <cp:revision>7</cp:revision>
  <dc:subject/>
  <dc:title>Slide 1</dc:title>
</cp:coreProperties>
</file>