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10060-CD3C-4151-AEA1-ECB016505E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4AE-407D-4E93-B868-5CC30C2C9D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1C8F-D450-4E6C-8792-752A1D3979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59EF4-9B95-4F87-88FF-383D388089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E2B2E-37EF-4617-B2C6-95996059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93113-4E5A-427A-9E25-83075497C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C4DB6-7D12-4D54-B536-A759A6465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3C6D5-CF0B-4EFD-8B73-104E16BBB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1549E-F08F-4BDF-978D-2A55DB836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58B5D-1116-45D0-9DB0-9C5CB3985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178B0-E65F-4324-94A9-B8670DE33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E1F4-C14F-4445-9460-E52EA36A2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E2048-F26F-4489-8B79-126EC0975E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74960" y="3763800"/>
            <a:ext cx="914400" cy="225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5049720" y="3763800"/>
            <a:ext cx="436680" cy="225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5991120" y="3762360"/>
            <a:ext cx="238320" cy="2271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10T17:14:33Z</dcterms:modified>
  <cp:revision>8</cp:revision>
  <dc:subject/>
  <dc:title>Slide 1</dc:title>
</cp:coreProperties>
</file>