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6BB07-067D-4AB2-A0CA-9F6E73F1D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164E-B278-40D8-A3D2-776FE4F2F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10C09-03C4-4386-809A-4C22FE6909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43FF7-F9F2-499F-AC00-0A4D61DA3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FD1AD-9526-46C1-8167-8E94483B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B4AA5-DC16-407D-9F45-73C26F54F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DD64F-932A-409A-ABC2-AC38670D9A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92787-4EDD-4D94-B5A3-AB552618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46D6-6AF3-44E7-9DF2-B454C115B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FCC74-4B73-4934-B609-2A682167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51A1-560E-43F0-84F0-45BCC45B3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7014D-B739-46C0-AACE-D84C5FB71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69024-CB7D-47FB-8AAF-F35FDB3D10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495520" y="2374920"/>
            <a:ext cx="233280" cy="452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075040" y="2378160"/>
            <a:ext cx="233280" cy="452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636560" y="2384280"/>
            <a:ext cx="233640" cy="452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496960" y="1827360"/>
            <a:ext cx="233640" cy="452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73240" y="1819440"/>
            <a:ext cx="233280" cy="452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1636560" y="1824120"/>
            <a:ext cx="233640" cy="4525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795840" y="1147680"/>
            <a:ext cx="2741400" cy="21744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581280" y="1147680"/>
            <a:ext cx="209520" cy="2095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539040" y="1143000"/>
            <a:ext cx="215640" cy="2206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1622520" y="1357200"/>
            <a:ext cx="2168280" cy="45720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728800" y="1371240"/>
            <a:ext cx="3805200" cy="14446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10:47Z</dcterms:modified>
  <cp:revision>7</cp:revision>
  <dc:subject/>
  <dc:title>Slide 1</dc:title>
</cp:coreProperties>
</file>