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7B5EC-5FC1-43FE-82EF-987549E89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2E6E-92B9-4A44-9383-705252710E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D2C5D-9F9D-492C-9BB1-11391A8C1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6924F-586B-467D-88B7-9BA60C6471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D973-BB54-4045-B649-17DEF1FFD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113D5-3BA1-4BFA-9453-A15684DB0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CDE31-7E6E-4C88-AD91-364E0A0F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EE47-F4FC-484E-825B-6B0A01B69B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559B2-953C-4402-A3F1-0EB74AB6E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23E50-0F1F-4C99-9C7C-D93CDFCA4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A9BE4-46FF-4EA8-B388-2554C04D6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CE06E-A353-4A26-916B-55ED82901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FEBB5-8EBD-42CD-A35F-2A88FDF32D8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209680" y="3200400"/>
            <a:ext cx="381240" cy="685800"/>
          </a:xfrm>
          <a:prstGeom prst="downArrow">
            <a:avLst>
              <a:gd name="adj1" fmla="val 50000"/>
              <a:gd name="adj2" fmla="val 4497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6T22:52:42Z</dcterms:created>
  <dc:creator>eshapiro</dc:creator>
  <dc:description/>
  <dc:language>en-US</dc:language>
  <cp:lastModifiedBy>eshapiro</cp:lastModifiedBy>
  <dcterms:modified xsi:type="dcterms:W3CDTF">2004-12-16T22:53:01Z</dcterms:modified>
  <cp:revision>1</cp:revision>
  <dc:subject/>
  <dc:title>Slide 1</dc:title>
</cp:coreProperties>
</file>