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613D9-3643-49CC-81E3-64538679D7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716B5-AD3A-4E05-93B1-112B36461E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C2C3-2C75-4AC7-BFF4-917587A76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1BCC-FAB7-4293-9440-38D4CEDA0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D55F-621C-451F-8B60-45505AC7F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DED7C-C6CC-41B9-82CA-FA9AFA8B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26BD3-605A-4F4D-9C97-43B182E88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33A0E-8EB2-4999-8CB8-208600893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BBEAA-0494-4A5E-B8D0-98195571C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6D5ED-1A5D-4C08-A138-F9FE5C049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E4321-D120-408C-8BA4-9E647F0B9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0124-4434-4364-A7B4-601E71217E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46D8B-C462-411A-A144-2BD59A1128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971800" y="3048120"/>
            <a:ext cx="457200" cy="609480"/>
          </a:xfrm>
          <a:prstGeom prst="downArrow">
            <a:avLst>
              <a:gd name="adj1" fmla="val 50000"/>
              <a:gd name="adj2" fmla="val 3332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7T21:54:28Z</dcterms:created>
  <dc:creator>eshapiro</dc:creator>
  <dc:description/>
  <dc:language>en-US</dc:language>
  <cp:lastModifiedBy>eshapiro</cp:lastModifiedBy>
  <dcterms:modified xsi:type="dcterms:W3CDTF">2004-12-17T21:54:49Z</dcterms:modified>
  <cp:revision>1</cp:revision>
  <dc:subject/>
  <dc:title>Slide 1</dc:title>
</cp:coreProperties>
</file>