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52812-86E3-47F5-BBA3-5D5EC1F97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63C54-2DAE-42BA-A676-A9BEF510E8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71C58-6932-4F04-A032-DA4DBB7A1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BFF56-2116-46B9-BA48-33241F10A1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65FF-D8C7-4A36-AF96-A9FFF2A93D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0696-2567-479C-AEEB-B33D046DC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2B37-4B2D-4B38-A64A-015C16610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FE37-6249-44E6-86FC-47D92FEE6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0FB01-8CB4-4968-94EB-CADBF8B5D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04B5-6A55-4F4F-AD7B-362681ECB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1BB91-0E57-4409-9B78-8F2C705B3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495A-179A-4776-B61A-153779AB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8F5EC9-237E-4BE1-9C2C-3B1CEE10B0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 flipV="1">
            <a:off x="4572000" y="2133720"/>
            <a:ext cx="38088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4952880" y="2133720"/>
            <a:ext cx="8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952880" y="1495440"/>
            <a:ext cx="0" cy="6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952880" y="1476360"/>
            <a:ext cx="876600" cy="657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62640" y="2133720"/>
            <a:ext cx="1266840" cy="380880"/>
          </a:xfrm>
          <a:custGeom>
            <a:avLst/>
            <a:gdLst/>
            <a:ahLst/>
            <a:rect l="l" t="t" r="r" b="b"/>
            <a:pathLst>
              <a:path w="792" h="240">
                <a:moveTo>
                  <a:pt x="792" y="240"/>
                </a:moveTo>
                <a:lnTo>
                  <a:pt x="792" y="0"/>
                </a:lnTo>
                <a:lnTo>
                  <a:pt x="240" y="0"/>
                </a:lnTo>
                <a:lnTo>
                  <a:pt x="0" y="240"/>
                </a:lnTo>
                <a:lnTo>
                  <a:pt x="792" y="24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62640" y="1143000"/>
            <a:ext cx="1600200" cy="343080"/>
          </a:xfrm>
          <a:custGeom>
            <a:avLst/>
            <a:gdLst/>
            <a:ahLst/>
            <a:rect l="l" t="t" r="r" b="b"/>
            <a:pathLst>
              <a:path w="1008" h="210">
                <a:moveTo>
                  <a:pt x="0" y="210"/>
                </a:moveTo>
                <a:lnTo>
                  <a:pt x="798" y="210"/>
                </a:lnTo>
                <a:lnTo>
                  <a:pt x="1008" y="0"/>
                </a:lnTo>
                <a:lnTo>
                  <a:pt x="222" y="0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4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829480" y="1143000"/>
            <a:ext cx="342720" cy="1362240"/>
          </a:xfrm>
          <a:custGeom>
            <a:avLst/>
            <a:gdLst/>
            <a:ahLst/>
            <a:rect l="l" t="t" r="r" b="b"/>
            <a:pathLst>
              <a:path w="210" h="858">
                <a:moveTo>
                  <a:pt x="0" y="210"/>
                </a:moveTo>
                <a:lnTo>
                  <a:pt x="210" y="0"/>
                </a:lnTo>
                <a:lnTo>
                  <a:pt x="210" y="642"/>
                </a:lnTo>
                <a:lnTo>
                  <a:pt x="0" y="858"/>
                </a:lnTo>
                <a:lnTo>
                  <a:pt x="0" y="21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572000" y="1486080"/>
            <a:ext cx="380880" cy="1009440"/>
          </a:xfrm>
          <a:custGeom>
            <a:avLst/>
            <a:gdLst/>
            <a:ahLst/>
            <a:rect l="l" t="t" r="r" b="b"/>
            <a:pathLst>
              <a:path w="246" h="642">
                <a:moveTo>
                  <a:pt x="6" y="0"/>
                </a:moveTo>
                <a:lnTo>
                  <a:pt x="246" y="0"/>
                </a:lnTo>
                <a:lnTo>
                  <a:pt x="246" y="402"/>
                </a:lnTo>
                <a:lnTo>
                  <a:pt x="0" y="642"/>
                </a:lnTo>
                <a:lnTo>
                  <a:pt x="6" y="0"/>
                </a:lnTo>
                <a:close/>
              </a:path>
            </a:pathLst>
          </a:custGeom>
          <a:blipFill rotWithShape="0">
            <a:blip r:embed="rId6"/>
            <a:srcRect/>
            <a:tile tx="0" ty="0" sx="100000" sy="100000" algn="ctr"/>
          </a:blipFill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0" y="1143000"/>
            <a:ext cx="1600200" cy="1371600"/>
          </a:xfrm>
          <a:prstGeom prst="cube">
            <a:avLst>
              <a:gd name="adj" fmla="val 25000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67160" y="25671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836800" y="21733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90920" y="173520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921040" y="143208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16120" y="22035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690560" y="154476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1917720" y="131292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4986360" y="1828800"/>
            <a:ext cx="125280" cy="1587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480" bIns="6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622760" y="1893960"/>
            <a:ext cx="13644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81720" y="2193840"/>
            <a:ext cx="123840" cy="1555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040" bIns="50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5162400" y="2316240"/>
            <a:ext cx="136800" cy="171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784760" y="1538280"/>
            <a:ext cx="125280" cy="1573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5760" bIns="57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5318280" y="1832040"/>
            <a:ext cx="110880" cy="14112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557680" y="1631880"/>
            <a:ext cx="114480" cy="144360"/>
          </a:xfrm>
          <a:prstGeom prst="star5">
            <a:avLst/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846520" y="2536560"/>
            <a:ext cx="2241360" cy="23652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1:58:52Z</dcterms:modified>
  <cp:revision>4</cp:revision>
  <dc:subject/>
  <dc:title>Slide 1</dc:title>
</cp:coreProperties>
</file>