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0BDF-D5DB-45E4-B89C-4C8D5502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0F2F9-EDEF-43D3-A6A5-7B0C538A4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DF88-4F81-40B0-AF92-39DC7B282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8FFE7-52D7-4BEC-AE3C-9732120BB9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C3825-3783-446D-96EF-2661DB436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E008-46AE-485F-A74A-76C96E7F1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AC852-EC15-42F2-84C9-BB18CB3C8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81CD-9822-4A87-8F65-49A13420A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328C-0B38-4E42-9771-7645C5BE5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89C3-1BA8-407E-9C95-CAB748F0C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93878-E956-41B1-BC96-7C950B493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BED66-CE48-4FAF-9380-7829BA57A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BEFB3-F8F0-41F1-A27C-47C20A8EBC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371600" y="1143000"/>
            <a:ext cx="1828800" cy="18288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627200" y="1843200"/>
            <a:ext cx="719280" cy="5252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86400" y="1135080"/>
            <a:ext cx="914400" cy="1371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638600" y="1303200"/>
            <a:ext cx="500040" cy="7621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89080" y="2084400"/>
            <a:ext cx="777960" cy="77616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089080" y="2860560"/>
            <a:ext cx="777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867040" y="2084400"/>
            <a:ext cx="0" cy="776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V="1">
            <a:off x="2089080" y="2368080"/>
            <a:ext cx="0" cy="4921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346480" y="2084400"/>
            <a:ext cx="5205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089080" y="208404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2088720" y="208440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089080" y="2368440"/>
            <a:ext cx="25740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346480" y="2084400"/>
            <a:ext cx="0" cy="2840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876920" y="1457280"/>
            <a:ext cx="569880" cy="14616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4876920" y="1457280"/>
            <a:ext cx="2570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876920" y="1457280"/>
            <a:ext cx="0" cy="147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 flipH="1">
            <a:off x="4876560" y="1600200"/>
            <a:ext cx="2617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138640" y="1600200"/>
            <a:ext cx="3081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5133960" y="1457280"/>
            <a:ext cx="312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44680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929120" y="1881360"/>
            <a:ext cx="398520" cy="39816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929120" y="2065320"/>
            <a:ext cx="0" cy="2142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929120" y="2279520"/>
            <a:ext cx="3985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flipV="1">
            <a:off x="5327640" y="1881360"/>
            <a:ext cx="0" cy="3981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138280" y="1881360"/>
            <a:ext cx="1890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flipV="1">
            <a:off x="4929120" y="188100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4928760" y="188136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133960" y="1457280"/>
            <a:ext cx="0" cy="142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929120" y="2065320"/>
            <a:ext cx="2048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138640" y="1881360"/>
            <a:ext cx="0" cy="1839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1616040" y="1310760"/>
            <a:ext cx="302256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62360" y="2279160"/>
            <a:ext cx="2054160" cy="569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08T21:31:05Z</dcterms:created>
  <dc:creator>eshapiro</dc:creator>
  <dc:description/>
  <dc:language>en-US</dc:language>
  <cp:lastModifiedBy>eshapiro</cp:lastModifiedBy>
  <dcterms:modified xsi:type="dcterms:W3CDTF">2005-03-08T22:25:11Z</dcterms:modified>
  <cp:revision>7</cp:revision>
  <dc:subject/>
  <dc:title>Slide 1</dc:title>
</cp:coreProperties>
</file>