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2927"/>
        <c:axId val="60110752"/>
      </c:barChart>
      <c:catAx>
        <c:axId val="2692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10752"/>
        <c:crosses val="autoZero"/>
        <c:auto val="1"/>
        <c:lblAlgn val="ctr"/>
        <c:lblOffset val="100"/>
        <c:noMultiLvlLbl val="0"/>
      </c:catAx>
      <c:valAx>
        <c:axId val="60110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2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08B-6E47-4BEA-B763-9784E3AC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B07-5511-4AA8-B53B-B77A132D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265-E35B-451A-9DFF-2142F4F5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0F7-9D9D-4542-992F-C90A7CCF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6B4-315B-4114-9359-FDD427EE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DC0-526E-4103-8733-60A8BDF7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92A-71C6-4F6C-8B6D-621A025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6D4-FF4F-43A9-8490-A681F29B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389-143B-4508-9567-B228A4BF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9A90-08E5-4DCA-B718-FF736BA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439-B2D1-44DA-BC92-A9802843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36A-A62E-47F6-B690-90614572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85CF4-D5E5-426B-AE65-4574B3329D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