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288191"/>
        <c:axId val="59568289"/>
      </c:barChart>
      <c:catAx>
        <c:axId val="422881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568289"/>
        <c:crosses val="autoZero"/>
        <c:auto val="1"/>
        <c:lblAlgn val="ctr"/>
        <c:lblOffset val="100"/>
        <c:noMultiLvlLbl val="0"/>
      </c:catAx>
      <c:valAx>
        <c:axId val="595682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2881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CC14-04D0-4A46-8BB5-50AC38BF8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B82D-C439-48EA-B1AB-CC874F8AE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38E6-2DC2-4B96-BAB6-609308BB8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5988-A659-4BB7-8E68-937B7F7E3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6E21-01BE-4998-B8C5-7533D8B8A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20EA-C2E4-4383-8C9D-36C3890EA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84CD-566A-4D79-AF67-17F13F2FB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4850-3C7B-48CC-8337-B4417A116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1350-2DE8-41D9-8955-CDFADC69A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7D2F-827E-49E8-A7E1-0BAF49BDD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4464-6E5B-415C-9B83-F628A89C9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27F6-2F1D-4732-9A15-C1C3BD455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CB110E-B90E-4774-B05E-A54F3D0A3E4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