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45274"/>
        <c:axId val="415477"/>
      </c:barChart>
      <c:catAx>
        <c:axId val="56445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477"/>
        <c:crosses val="autoZero"/>
        <c:auto val="1"/>
        <c:lblAlgn val="ctr"/>
        <c:lblOffset val="100"/>
        <c:noMultiLvlLbl val="0"/>
      </c:catAx>
      <c:valAx>
        <c:axId val="415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45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AA4A-4963-48E0-BA52-2D3B0436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0A9-1C70-4750-8789-888E8B53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9F1-74BA-4BDD-8C2E-160B130F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A9A4-B5D7-4F00-A9C2-08118A69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B87-8908-426D-BB0C-E0D9429D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FE3-DA7C-49CA-A2BB-C10F077D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1FC-15C2-4F1A-851E-1BF7D180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5A3-6B6D-4FEC-807E-7EFB3AB4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A67-0A4A-4997-B1A4-948F938C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E93-E1F8-4445-8B29-748670DE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EAD-3B61-4DD6-8AAD-305D79E5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E3F-B70E-48F6-92FE-FE6E2D0B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E2BEB-BFF5-4236-8DF3-D70E231E4F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